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83779"/>
        <c:axId val="85198536"/>
      </c:barChart>
      <c:catAx>
        <c:axId val="64983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8536"/>
        <c:crosses val="autoZero"/>
        <c:auto val="1"/>
        <c:lblAlgn val="ctr"/>
        <c:lblOffset val="100"/>
        <c:noMultiLvlLbl val="0"/>
      </c:catAx>
      <c:valAx>
        <c:axId val="85198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83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C42-5C35-47AB-9FF3-A7A8CE30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3BD-FF10-4F62-B93C-C206A832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0BC-0A17-414B-A442-C76A7C35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D1C-65F0-4D81-925F-0C1EA5CD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19F-A552-42A3-B84D-FA0448E4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2AE-4502-42B1-B57F-0F43A5C2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E43-40BA-4CEB-9028-2C70C682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582-3B57-4217-AB3F-2ABBE7ED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445-AD30-4778-ACAC-107D6FB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B63-A510-478F-9FDD-1B4524A8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713-A6F7-4EDC-BC26-32EBC6D5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F0A-0F41-4468-97B0-11037C90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5804E-1B05-4473-A94E-B15538BFD5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