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77275"/>
        <c:axId val="93224801"/>
      </c:barChart>
      <c:catAx>
        <c:axId val="88377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24801"/>
        <c:crosses val="autoZero"/>
        <c:auto val="1"/>
        <c:lblAlgn val="ctr"/>
        <c:lblOffset val="100"/>
        <c:noMultiLvlLbl val="0"/>
      </c:catAx>
      <c:valAx>
        <c:axId val="93224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77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506-8DEB-435A-AB24-72A8D3AC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F82-4014-4D70-902C-C207D7F1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B70-8738-40CC-BE29-09284A22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25A-2D7C-47CB-B05A-FEA4826E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D52-AC18-4540-B1DF-238A296F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D6B-817C-4E75-AED8-F68C22A5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058-FD70-44E9-B22C-0D0BA365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51B-7D2C-4B70-9FE7-527961A4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540-6D70-485C-8EF8-5401322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8AA-DF2D-42FC-A16A-82CF28B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67E-CCD2-4B0C-B484-23DD3E8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21C-4A18-456B-95F8-173B53BF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57844-8EFC-48C6-B478-59B0B4DDDA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