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3084"/>
        <c:axId val="75188052"/>
      </c:barChart>
      <c:catAx>
        <c:axId val="19853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88052"/>
        <c:crosses val="autoZero"/>
        <c:auto val="1"/>
        <c:lblAlgn val="ctr"/>
        <c:lblOffset val="100"/>
        <c:noMultiLvlLbl val="0"/>
      </c:catAx>
      <c:valAx>
        <c:axId val="75188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3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686-0922-47CB-B5B8-FFF733C9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EE4-015B-4531-81C3-9198DB4E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9FD8-9BA3-470A-9D2E-EA7B7D9B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A0C-66C0-426B-BB54-C25A174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CF9-27E7-49CF-A01E-520326C9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1E1-2BFF-441D-A328-56CE2BDE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D2D-5AC1-417B-B8F3-421321E8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B97-9B9F-4BC5-A9F6-5DFEF60F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FBA-C7D9-4956-AF3C-E9B474B7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CA2-662A-4CC9-928E-52BD0C8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783-2FCF-413E-9F1C-B54C22A3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DA0-98A9-4EAB-88F2-6C7C9A86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AE50D-C807-41E6-B443-446BF3D70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