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95250"/>
        <c:axId val="81168335"/>
      </c:barChart>
      <c:catAx>
        <c:axId val="230952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68335"/>
        <c:crosses val="autoZero"/>
        <c:auto val="1"/>
        <c:lblAlgn val="ctr"/>
        <c:lblOffset val="100"/>
        <c:noMultiLvlLbl val="0"/>
      </c:catAx>
      <c:valAx>
        <c:axId val="81168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52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485-8F9C-4C42-A402-F881FC67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231-3378-407C-BF8B-1C7E90D8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163-3C39-4786-ABA4-D58ED45A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33C-F56C-4E9C-9591-1B6B6160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C251-5AE5-47D4-9541-F59AFB7B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28A-72D6-4259-996E-70081D0F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8D9-C2A0-4FA8-811B-8A6432AF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4DC-1E05-4C48-8140-455274E1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220-9560-4E05-94BD-191018AB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42B-9D0B-419D-AF49-1818B6FA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B81-50B1-4213-A68A-9D104830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75A-BD53-44CA-8257-CDA2E1D1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CD077-AD73-4BB6-80DB-219EC7C624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