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68985"/>
        <c:axId val="96546526"/>
      </c:barChart>
      <c:catAx>
        <c:axId val="852689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46526"/>
        <c:crosses val="autoZero"/>
        <c:auto val="1"/>
        <c:lblAlgn val="ctr"/>
        <c:lblOffset val="100"/>
        <c:noMultiLvlLbl val="0"/>
      </c:catAx>
      <c:valAx>
        <c:axId val="96546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689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113-9B87-4014-A167-C4740B96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C43-DA8B-4BF9-8B13-89203FAF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EA8-2FB0-4B75-A4B1-BB2A9A4C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AE3-63CD-4C7B-87C7-BD47E226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FC94-33C9-4225-A8DB-62A8619B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0A9-361C-49EC-8479-FCC50815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1DF-3E88-421D-982F-37350A7E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BDA-D14E-43C6-8F33-D1DF713D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3320-EA6D-4E2E-84DC-4514F8A6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C5E-D7CD-428F-890C-275D8C0A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482-B24E-4A05-A970-425D13C6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C87-BF86-456F-8181-E20965B5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EB9C3-45BA-44E9-BB5E-97920171B1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