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75041"/>
        <c:axId val="13056912"/>
      </c:barChart>
      <c:catAx>
        <c:axId val="10775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56912"/>
        <c:crosses val="autoZero"/>
        <c:auto val="1"/>
        <c:lblAlgn val="ctr"/>
        <c:lblOffset val="100"/>
        <c:noMultiLvlLbl val="0"/>
      </c:catAx>
      <c:valAx>
        <c:axId val="13056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75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BA3-EE22-4918-8F26-4B915548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F6D-55A7-4E30-8E46-13C25E7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3BF-1DC1-47F2-9B7A-928487FB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BA8-79E7-47B6-BE61-5395FE25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FD7-912C-4EF9-BB63-D5C0E703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580-19AD-44B7-BBBB-3506D44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9AA-9F4C-4605-B271-7311E9F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BA1-FA8C-4BA6-AF15-D3BE5B5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912-58F6-4AF2-BEB7-D3C9015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9C1-3253-4B55-A5A4-8E7E6FA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7DB-FC40-46F2-A830-2A778D0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64E-5CD2-4691-A9D2-E04C85E3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3DB48-A8E2-4074-8A4E-C6FAB3798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