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60344"/>
        <c:axId val="30857622"/>
      </c:barChart>
      <c:catAx>
        <c:axId val="94360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57622"/>
        <c:crosses val="autoZero"/>
        <c:auto val="1"/>
        <c:lblAlgn val="ctr"/>
        <c:lblOffset val="100"/>
        <c:noMultiLvlLbl val="0"/>
      </c:catAx>
      <c:valAx>
        <c:axId val="30857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60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1A5-BDC4-48DB-A6F6-689AAD62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9F1-5D04-44CE-98BE-BFB5DCE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2AB-02DD-4CD5-89C6-13208072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9D8-F420-41BD-B530-36A96AC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5E8-7F78-4F27-8FE8-58BBE4CA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0C6-FD60-445D-B71F-338BDC4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53B-C439-4CC5-9204-F83C10D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127-C435-4865-93DA-4B77178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965-3395-43A3-A261-0D1031D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C64-846C-4818-BD22-8E3ACE8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55A-E40D-42D1-88DF-E284360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DBD-D7C2-43BE-82B5-FE93AEB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C6043-D4A5-4716-8E65-167552734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