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85652"/>
        <c:axId val="47388461"/>
      </c:barChart>
      <c:catAx>
        <c:axId val="82385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88461"/>
        <c:crosses val="autoZero"/>
        <c:auto val="1"/>
        <c:lblAlgn val="ctr"/>
        <c:lblOffset val="100"/>
        <c:noMultiLvlLbl val="0"/>
      </c:catAx>
      <c:valAx>
        <c:axId val="47388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85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D9B-194F-4169-A22C-BD06692B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B55-E9CB-4D54-9FCB-E0ABD6AE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772-FDE2-4161-8696-216DF307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E47-626A-4D11-A13C-453489CE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AE8-DFD5-4EBF-A3E5-DBB30B7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F94-CEBE-4DED-80C4-AACF110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889-881E-4F94-BA99-D702FAD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9C1-3C3D-4F9C-9B3B-7EE9E1E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7EE-E384-46EC-9767-580BBBFE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509-C528-4B5F-9E57-C8288DC1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6C9-7A5E-40AA-B6CB-99A7EF76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9B2-4248-474C-9C61-F6BA3AB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A3096-CBE5-48C1-A9AE-0A99C63199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