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04422"/>
        <c:axId val="60449627"/>
      </c:barChart>
      <c:catAx>
        <c:axId val="72304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49627"/>
        <c:crosses val="autoZero"/>
        <c:auto val="1"/>
        <c:lblAlgn val="ctr"/>
        <c:lblOffset val="100"/>
        <c:noMultiLvlLbl val="0"/>
      </c:catAx>
      <c:valAx>
        <c:axId val="60449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04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3158-D602-4A79-9FE7-63E586F1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558-A132-4DF1-8769-433538CF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A81-1FDB-4547-9B10-7BDF23AA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3CB-69D2-4694-8002-FDBF1BEC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52E-7B7A-4DA9-9330-30F52413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29D-FBE2-473E-86B7-58EA0D85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3E6-4C46-425F-8C53-CE76A581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0B8-8C78-4D86-A0C3-8C202624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114-7B80-429A-AE66-1DBC2400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987-5F43-4DE6-9568-2D8610A3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CD3-14F3-4016-AF4E-E5F3D4AE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1BA-A8C0-473E-81B0-F298C355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4E4E1-BEE3-4C28-8587-BCFB21A2EB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