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9769"/>
        <c:axId val="83392417"/>
      </c:barChart>
      <c:catAx>
        <c:axId val="7849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92417"/>
        <c:crosses val="autoZero"/>
        <c:auto val="1"/>
        <c:lblAlgn val="ctr"/>
        <c:lblOffset val="100"/>
        <c:noMultiLvlLbl val="0"/>
      </c:catAx>
      <c:valAx>
        <c:axId val="83392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AC8-FF9A-43F0-9782-F679BFF8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7F7-C94C-44D0-9B32-2101BC51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ADE-4FEC-4F7D-A39F-57E73F52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AB3-6457-4F70-987D-E437E20C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54D-1D56-4F44-B9E7-C9124CCC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F76-243A-4B39-BEAD-91B0F258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69B-CB92-44B6-8354-FD383AE4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6C2-E5B8-4662-B0D2-931ED62F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3EA-364C-4822-B4C0-8DBE8389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69F-17FE-4D96-9972-D7A2FC53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67C-9B6B-4849-A3AB-DF77EB04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36F-5690-478B-A6AF-E47EBED8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34F66-755A-4636-8FDE-DF72CDB5AA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