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361482"/>
        <c:axId val="77615966"/>
      </c:barChart>
      <c:catAx>
        <c:axId val="153614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615966"/>
        <c:crosses val="autoZero"/>
        <c:auto val="1"/>
        <c:lblAlgn val="ctr"/>
        <c:lblOffset val="100"/>
        <c:noMultiLvlLbl val="0"/>
      </c:catAx>
      <c:valAx>
        <c:axId val="776159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3614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EEFF-C6AA-4AC9-9388-ADBEF19B9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3384-99BB-46E8-8A47-621C8A4B0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5A61-8D09-454E-90F9-9082D88CD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08DD-9CB1-49FB-AE81-D4212F7A3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8266-45BD-45E8-852A-44FC76EEB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2747-4EEA-485B-BEB7-AFC249FB8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AD19-96CD-4491-97A5-A45188767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C61D-4126-4A66-B016-6923B96FB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0B03-D39F-4F24-949B-3F5E9CE2F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D946-E8B0-4516-A32C-11FCB104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41C9-486A-4C2A-972A-F065F63C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CF70-373D-4F84-BCCF-16CBF43F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09D4CD-9961-4294-AA7D-E27313EE9F0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